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A1D1-AE3C-4458-A429-1F3144C7DF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conflicts with the previous slide - it says that members choose to participate - this one states all must particip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2CE-1AC5-4564-89A2-605AB424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E56-D672-42EB-AAA3-08B5DA7C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A43A-F08C-46B7-9E48-F526DB63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E868-192F-4738-8071-D570B672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6F6C-3D99-4C00-BE62-1B23F65C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8A2F-4D02-44CE-9C58-6AA40352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F3DD-38E4-4367-95B2-972C1A27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1FB1-6131-4233-8BBB-21DFB5C7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0D3E-4940-4E0A-B2E0-FBB65244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A4F7-4F3A-4DE9-A88B-D1172E61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A039-C410-4DEF-8C8A-81843D3B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3D5-D2D8-4754-B8FE-AD5EB277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215F-AAAE-4403-B69D-70595579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13FD-B82F-4CFA-ACCD-30710BCF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06D9-83E5-4C51-9AC3-D054C0C9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4A21-EDB0-4483-91BC-D280DF3B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340C-0BD2-453F-8590-7EDCEBD8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431-6444-4357-85D8-854393C4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993-3404-49D0-AC33-F036A05D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922-8FAB-4672-B4A6-4BF8D792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43B-FD84-4A3C-A1E6-D2BE70D4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B16-2376-4A2F-9533-B78EF629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A9F-0031-4C21-9DBC-ED4329EA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099-1FE8-4693-BD48-A214EEBC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1995-7B62-4343-9542-1099E56D4A6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A86C-2628-4245-BA60-6D08E94A607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ed b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ert Group Names 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eachers are sitting in the teachers’ lounge during their conference period and having a powerful discussion on a new Special Education student in their classrooms who has moved in from another district and is presenting behavior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grade team plans a unit around Dr. Seuss with the common expectation that students will orally report on their favorite Dr Seuss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eachers discussing how Math is taught across the traditional structural boundaries of grade level and subject matter with a common goal of improving number sense in all students at the scho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01640" y="5335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ever felt alone as a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ic level of intellectual interaction among teac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not require teachers to share 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bedded video on this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tual learning and discussion of classroom pract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ussion of student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lesson pl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id in providing consistent expec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79132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tual decision making to resolve problems of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ships built around communal experience and interests of all school me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focus on student lear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Build Collabo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are exposed to how things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’ work is tied to meaningful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mbers choose to particip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ly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include all members of the faculty and staf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 must be set as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ff must have support and encouragement to become st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4:01:25Z</dcterms:created>
  <dc:creator>Paul Pabian</dc:creator>
  <dc:description/>
  <dc:language>en-US</dc:language>
  <cp:lastModifiedBy>Paul Pabian</cp:lastModifiedBy>
  <dcterms:modified xsi:type="dcterms:W3CDTF">2007-02-05T03:11:24Z</dcterms:modified>
  <cp:revision>4</cp:revision>
  <dc:subject/>
  <dc:title>The 3 C’s</dc:title>
</cp:coreProperties>
</file>